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eme2.wav" ContentType="audio/x-wav"/>
  <Override PartName="/ppt/media/Categories.wav" ContentType="audio/x-wav"/>
  <Override PartName="/ppt/media/Daily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FDCC-1A95-40AB-A98C-D711C2E7B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E21F-26C8-4F3E-8F95-26B9F0F7A3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1420-7886-4FF5-AE2B-AB06C84DB3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C52D-B8BF-4C65-B345-8F3CEE8553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01000" y="655272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heme2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aily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audio" Target="../media/Categories.wav"/><Relationship Id="rId4" Type="http://schemas.openxmlformats.org/officeDocument/2006/relationships/audio" Target="../media/Categori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Daily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ail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752480" y="2666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ce to Beg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828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JEOPARDY!</a:t>
            </a:r>
            <a:endParaRPr b="0" lang="en-US" sz="9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sychology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7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hem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The memory process that involves locating stored information and returning it to conscious thought.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This type of storage strategy is used in education and involves people making meaning of new information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Sad feelings that trigger sad feelings of another time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 semantic code represents information in terms of its…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bility to remember visual stimuli over long periods of time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523880" y="609480"/>
            <a:ext cx="6324840" cy="10083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Daily Double!!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This type of sensory memory is an “initial recording” and extremely brief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ithin this stage, how is the information received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Mental traces of sound that can last several seconds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lso called “photographic memory” and dissipates as we get older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Tendency to recall the initial and finishing items in a series of items.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1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1066680" y="304920"/>
            <a:ext cx="670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JEOPARDY</a:t>
            </a:r>
            <a:r>
              <a:rPr b="1" lang="en-US" sz="6000" spc="-1" strike="noStrike">
                <a:solidFill>
                  <a:srgbClr val="ffffff"/>
                </a:solidFill>
                <a:latin typeface="Benguiat Frisky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2743200"/>
            <a:ext cx="129564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78272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18456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58640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98788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39152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088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78272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318456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58640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98788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739152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38088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178272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18456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58640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598788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739152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38088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178272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318456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31"/>
          <p:cNvSpPr/>
          <p:nvPr/>
        </p:nvSpPr>
        <p:spPr>
          <a:xfrm>
            <a:off x="458640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598788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739152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34"/>
          <p:cNvSpPr/>
          <p:nvPr/>
        </p:nvSpPr>
        <p:spPr>
          <a:xfrm>
            <a:off x="38088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5"/>
          <p:cNvSpPr/>
          <p:nvPr/>
        </p:nvSpPr>
        <p:spPr>
          <a:xfrm>
            <a:off x="178272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36"/>
          <p:cNvSpPr/>
          <p:nvPr/>
        </p:nvSpPr>
        <p:spPr>
          <a:xfrm>
            <a:off x="318456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458640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598788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739152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38088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Kinds of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178272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Processes of Mem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48"/>
          <p:cNvSpPr/>
          <p:nvPr/>
        </p:nvSpPr>
        <p:spPr>
          <a:xfrm>
            <a:off x="318456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Sensory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458640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Short-term Mem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50"/>
          <p:cNvSpPr/>
          <p:nvPr/>
        </p:nvSpPr>
        <p:spPr>
          <a:xfrm>
            <a:off x="5987880" y="1447920"/>
            <a:ext cx="132588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Long-term</a:t>
            </a: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1"/>
          <p:cNvSpPr/>
          <p:nvPr/>
        </p:nvSpPr>
        <p:spPr>
          <a:xfrm>
            <a:off x="739152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Rockwell"/>
              </a:rPr>
              <a:t>Forget Me Not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tegori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tegori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4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1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8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2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9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6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3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7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Times New Roman"/>
              </a:rPr>
              <a:t>Organization of items into familiar or manageable units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Why is short-term memory also called “working memory”?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Times New Roman"/>
              </a:rPr>
              <a:t>The ability to recall the last items in a series of items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Times New Roman"/>
              </a:rPr>
              <a:t>Describe what happens when new information appears in short-term memory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Times New Roman"/>
              </a:rPr>
              <a:t>Define long-term memory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Why do people use their own schemas in regards to long-term memory?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escribe the capacity of long-term memory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How is memory, specifically long-term memory, reconstructive?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523880" y="609480"/>
            <a:ext cx="6324840" cy="10083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Daily Double!!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Name a one useful way or technique (described in the book) that helps you store information to your long-term memory.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Times New Roman"/>
              </a:rPr>
              <a:t>The fading away of memory…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4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1828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Daily Double Graphic and Sound Effect!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32004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DO NOT DELETE THIS SLIDE!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Deleting it may cause the game links to work improperly.  This slide is hidden during the game, and WILL not appea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slide view mode, copy the above (red) graphic (click once to select; right click the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border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and choose “copy”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te the answer slide which you want to be the daily dou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ight-click and choose “paste”.  If necessary, reposition the graphic so that it does not cover the answer tex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523880" y="609480"/>
            <a:ext cx="6324840" cy="10083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Daily Double!!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Times New Roman"/>
              </a:rPr>
              <a:t>Name the memory task that involves identifying objects encountered before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Forgetting memories by pushing them out of one’s consciousness.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The form of forgetting in which a person cannot remember the events from his or her early childhood.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Memory loss from a trauma that prevents a person from forming new memories.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AutoShape 4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General knowledge that people remember.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Times New Roman"/>
              </a:rPr>
              <a:t>Memory of a specific event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Learning to use a computer is an example of this kind of memory.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  <a:ea typeface="Times New Roman"/>
              </a:rPr>
              <a:t>It’s autobiographical and sometimes called a “flashbulb memory”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It is an </a:t>
            </a:r>
            <a:r>
              <a:rPr b="1" i="1" lang="en-US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explicit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 memory (clearly stated or explained).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800100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Repeating information over and over again to keep from forgetting.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AutoShape 3">
            <a:hlinkClick r:id="" action="ppaction://hlinkshowjump?jump=previousslide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5T02:28:20Z</dcterms:created>
  <dc:creator>Bill Arcuri</dc:creator>
  <dc:description/>
  <dc:language>en-US</dc:language>
  <cp:lastModifiedBy>Curtis Ranweiler</cp:lastModifiedBy>
  <dcterms:modified xsi:type="dcterms:W3CDTF">2012-11-09T15:24:53Z</dcterms:modified>
  <cp:revision>42</cp:revision>
  <dc:subject/>
  <dc:title>No Slide Title</dc:title>
</cp:coreProperties>
</file>